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9A4-6079-40E2-85E5-4681DCF2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637-A158-4A0C-964C-E4E4B20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958-6E4B-4B6F-A6D7-42EF63B2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695-27FD-4A1E-ABBB-380CF671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686-223F-4684-ABEC-78A7D3EF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78BF-FEB4-4664-A4CE-BAF3B519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3B79-6F6F-4558-8E20-752C9DE9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C1F-6F11-46FB-B009-70E1648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0C0-DB09-4BB6-9118-35F0FE30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CD15-2317-4CCA-91A7-72FDB8FA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FEB-4B98-4864-81BE-870C549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1DF-833E-4EBA-B896-555EB1A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5769-7248-4D86-BE54-3EC9E7E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7D90-53C4-4C51-8CD8-07C9043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788-7F1D-472B-A109-F25CAA87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3F0-7C5D-42F8-8982-93352550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D38-0E37-43E1-A22D-BC4670C8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9EE-B552-4F7F-A4BB-54AE1BF1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F06-ADC9-49DC-9632-9BDD6E8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060-EEF7-4B66-8C2C-958F46E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FF1-1129-4F97-A0BC-93E2EDFD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A4F-7BBB-43D8-8373-B4BAEFB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EED-23C5-405A-809A-C2C63AD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726-3EB7-47F0-9E1B-0841795D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A1EB-C883-4BA7-80D9-3854C1A002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F5B9-2A17-49B2-915F-6415CFC4A2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stnik-cvetovoda.ru/photo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Азот, аммиак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 соли аммон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23248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горении аммиака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419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 H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 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аммиака с водой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гидрид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а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оксид азота и водор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гидроксид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1532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каталитическом окислении аммиака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86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2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380880"/>
            <a:ext cx="7851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взаимодействии аммиак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с кислотами образую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соли азотн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соли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соли азотист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аммиачная в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8" dur="1" fill="hold"/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44440"/>
            <a:ext cx="823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Степень окисления азота в ионе NН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Arial"/>
              </a:rPr>
              <a:t>4</a:t>
            </a:r>
            <a:r>
              <a:rPr b="1" lang="ru-RU" sz="3600" spc="-1" strike="noStrike" baseline="30000">
                <a:solidFill>
                  <a:srgbClr val="ffffb7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равн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133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 – 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– 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 + 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  + 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4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Хлорид аммония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хлорид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гидроксидом б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атом кал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соляной кислот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0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92160"/>
            <a:ext cx="853452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Качественной реакцией на катион аммония является взаимодействие солей аммония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раствором щелоч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раствором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вод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нитратом сереб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6" dur="1" fill="hold"/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Карбонат аммония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хлоридом б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гидроксид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атом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соляной кислот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3088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онную кристаллическую решетку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 имеет соединени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 N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 NH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 NaC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 CaF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8" dur="1" fill="hold"/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Реакцией ионного обмена, идущей в водном растворе до конца, является взаимодействи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7560" y="190512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сульфата аммония и хлорида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 хлорида аммония и гидроксида кал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сульфата аммония и соляной кисл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 нитрата аммония и сульфата нат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4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44080"/>
            <a:ext cx="8308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изкая реакционная способность молекулы азота объясн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7560" y="1904760"/>
            <a:ext cx="808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большим размером атома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аличием тройной связи между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томами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типом кристаллической реше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физическими свойствами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Фото: SarkangalvIte">
            <a:hlinkClick r:id="rId1"/>
          </p:cNvPr>
          <p:cNvPicPr/>
          <p:nvPr/>
        </p:nvPicPr>
        <p:blipFill>
          <a:blip r:embed="rId2"/>
          <a:srcRect l="0" t="0" r="9449" b="0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7335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имание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аиболее прочная химическая связь в молекул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 F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  Cl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 O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N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Взаимодействие между азотом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кислородом возможно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температур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кипения азо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кипения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10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300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25280"/>
            <a:ext cx="8381880" cy="17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реакции азот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кислорода при высокой температуре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37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  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 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 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 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и комнатной температуре азот взаимодействует с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водород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кислород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лити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кальци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385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магния с азотом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нитрат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ит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нитрид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оксид маг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Продуктом взаимодействия азота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 водорода являетс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  нитри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 нитрат вод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  аммиа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 гидроксид аммо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Верны ли следующие суждения?</a:t>
            </a:r>
            <a:br>
              <a:rPr sz="3600"/>
            </a:b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А. Аммиак имеет молекулярную      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кристаллическую решетку.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Б. Аммиак можно собирать путем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вытеснения во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 верно только 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 верно только 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 верны оба сужд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 оба суждения невер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7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